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748-7535-4EE3-A8BC-7A407957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903-5CDE-4A34-8388-8FFE6A4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FE1-2D27-4F44-8AEA-286DB551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7DE-75EA-4B2B-9495-E10E7073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5F2-4B83-4485-BDF5-288AFBEC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05F-D562-41F9-AA4C-2E614AD1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C06-6285-49DC-9EE0-EC563839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626-31EB-4A05-8C34-28A4E5B0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72E-4A5B-471A-AFAE-BD10C7AE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E63-3D48-4484-A962-2B1DA15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56B-A1E0-4F47-B4D8-037D4EE7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B27-D12D-4D78-8F19-9D465DD3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DE2D-437B-4FF5-9E75-32AC2397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erheavy.wav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7.xml"/><Relationship Id="rId27" Type="http://schemas.openxmlformats.org/officeDocument/2006/relationships/slide" Target="slide59.xml"/><Relationship Id="rId28" Type="http://schemas.openxmlformats.org/officeDocument/2006/relationships/slide" Target="slide61.xml"/><Relationship Id="rId29" Type="http://schemas.openxmlformats.org/officeDocument/2006/relationships/slide" Target="slide63.xml"/><Relationship Id="rId30" Type="http://schemas.openxmlformats.org/officeDocument/2006/relationships/slide" Target="slide65.xml"/><Relationship Id="rId31" Type="http://schemas.openxmlformats.org/officeDocument/2006/relationships/slide" Target="slide67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Jeopardy_Think_Music.mp3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gag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4114800" y="57150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90720" y="20574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vey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ople's opin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2133720" y="312408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4114800" y="57150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838080" y="152388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conducted by an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any and then offered for s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everyone in an industry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523880" y="23623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14400" y="1676520"/>
            <a:ext cx="73152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ff researchers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k with exter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agenci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523880" y="2057400"/>
            <a:ext cx="5943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ent-S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838080" y="1219320"/>
            <a:ext cx="75438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3 job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ctions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researc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523880" y="990720"/>
            <a:ext cx="59436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 surve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ther info about 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ck s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ze advertising 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recommendations abou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mo, distrib, design &amp; 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219320" y="182880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rst of seven step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Market Research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295280" y="1523880"/>
            <a:ext cx="70106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143000" y="1676520"/>
            <a:ext cx="67816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cover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e Probl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886200" y="5791320"/>
            <a:ext cx="1447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762120" y="1828800"/>
            <a:ext cx="7696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mall # representat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large group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905120" y="259092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219320" y="1523880"/>
            <a:ext cx="67053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nge of pri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for a categ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erchandis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st step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 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838080" y="1828800"/>
            <a:ext cx="74678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lement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aluat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3962520" y="5791320"/>
            <a:ext cx="1447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838080" y="1828800"/>
            <a:ext cx="7543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use of powerfu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ers to "dig-up" 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ed to make decis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828800" y="243828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t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3962520" y="594360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914400" y="1828800"/>
            <a:ext cx="7543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gath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fically focused 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ingle target marke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1828800" y="22096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838080" y="18288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rts of other comple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are used to hel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e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371600" y="1828800"/>
            <a:ext cx="6477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38098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914400" y="23623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used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business is aw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1447920" y="2209680"/>
            <a:ext cx="6172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609480" y="2133720"/>
            <a:ext cx="79250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used to determ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 and effect relationship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blem is already clearly defin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990720" y="182880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40384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143000" y="152388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 conducted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usiness is unaw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exact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447920" y="2362320"/>
            <a:ext cx="62481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ora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762120" y="1905120"/>
            <a:ext cx="7772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way a produc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iated i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ds of 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their competi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752480" y="2819520"/>
            <a:ext cx="5639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c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3962520" y="594360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09480" y="2286000"/>
            <a:ext cx="8077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cess by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ctics are implement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905120" y="2286000"/>
            <a:ext cx="5333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685800" y="1676520"/>
            <a:ext cx="7772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jor events where rel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dustries meet to exhib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products, exchange idea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learn about the lastest trend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2133720" y="1981080"/>
            <a:ext cx="4800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37339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09480" y="2362320"/>
            <a:ext cx="8077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gath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your competi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05120" y="2133720"/>
            <a:ext cx="5333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llig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41148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609480" y="1676520"/>
            <a:ext cx="78487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ur sour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we can 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 information ab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r competitor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95280" y="1371600"/>
            <a:ext cx="6324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 Show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380988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09480" y="1828800"/>
            <a:ext cx="8001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recisely written docu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escribes the tactic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 that will be us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market the produc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066680" y="2057400"/>
            <a:ext cx="7239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828800" y="1219320"/>
            <a:ext cx="5410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1752480"/>
            <a:ext cx="79246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ing the information s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it has meaning and dra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clusions that relate to the defin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research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289548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re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3962520" y="58672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914400" y="251460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ic marketing 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ed to solve the probl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828800" y="24382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l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838080" y="1981080"/>
            <a:ext cx="76201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s at which a 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s contact with 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websites, email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ne calls or advertisi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828800" y="297180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ch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3886200" y="586728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143000" y="2286000"/>
            <a:ext cx="7010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ad group of consumer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not targeted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40384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85800" y="2057400"/>
            <a:ext cx="79246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ies the n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busines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reason it exis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914400" y="1219320"/>
            <a:ext cx="7391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orts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ertai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905120" y="160020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762120" y="1676520"/>
            <a:ext cx="76960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sales potential for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w product is tried in a re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other small market prior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s final release nationall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1905120" y="160020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>
            <a:hlinkClick r:id="rId2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1066680" y="1752480"/>
            <a:ext cx="70866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the product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any has avail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customers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one tim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905120" y="1981080"/>
            <a:ext cx="5257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foli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990720" y="2133720"/>
            <a:ext cx="7010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three maj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nents to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Pla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371600" y="1523880"/>
            <a:ext cx="66294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te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lemen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388620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685800" y="1905120"/>
            <a:ext cx="7848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ide 3 of the 5 top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ered under Implement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Marketing Pla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1143000" y="1523880"/>
            <a:ext cx="6781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l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ignment of Responsibili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Communic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iew &amp; Evalu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>
            <a:hlinkClick r:id="rId2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3809880" y="59436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838080" y="1295280"/>
            <a:ext cx="7467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 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0" name="WordArt 3"/>
          <p:cNvSpPr txBox="1"/>
          <p:nvPr/>
        </p:nvSpPr>
        <p:spPr>
          <a:xfrm>
            <a:off x="762120" y="3505320"/>
            <a:ext cx="746748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hat is the differenc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between Market Research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&amp; Marketing Research?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41" name="Jeopardy_Think_Music.mp3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137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523880" y="2057400"/>
            <a:ext cx="6019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914400" y="114300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 - conducted specificall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r target market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ing - conducted to solve broad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cope of marketing problem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1">
            <a:hlinkClick r:id="rId2"/>
          </p:cNvPr>
          <p:cNvSpPr/>
          <p:nvPr/>
        </p:nvSpPr>
        <p:spPr>
          <a:xfrm>
            <a:off x="6094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e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f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search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3276720" y="380880"/>
            <a:ext cx="1143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search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4724280" y="3049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ports &amp;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tertain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rateg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keting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4">
            <a:hlinkClick r:id="rId32" action="ppaction://hlinksldjump"/>
          </p:cNvPr>
          <p:cNvSpPr/>
          <p:nvPr/>
        </p:nvSpPr>
        <p:spPr>
          <a:xfrm>
            <a:off x="8763120" y="64771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106668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eat customers who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letely loyal to the company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s are known a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sundlin</cp:lastModifiedBy>
  <dcterms:modified xsi:type="dcterms:W3CDTF">2011-02-04T20:05:16Z</dcterms:modified>
  <cp:revision>71</cp:revision>
  <dc:subject/>
  <dc:title>No Slide Title</dc:title>
</cp:coreProperties>
</file>